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FC5-202E-4DB3-951F-B6B3BE2D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C0B-76EB-4928-8C32-65A5526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7EB-7A97-4937-989B-DBC79E24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F2B-F659-4F38-A769-66037263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0074-0281-482A-BFB0-C7E0DC0F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3C5-DC4B-4282-A714-8071F0F7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21AE-48E9-45C2-BC7D-33BFA58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EDB8-5139-4B28-9DEC-FB7D301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0C9-ED8B-4179-B6FA-A8AC7D1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144-E532-4EC2-A4DD-222A6CE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C4E-1C85-4E29-B656-216250F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A47-8A1A-435F-BAB0-05D0B07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596-C850-4E5A-9612-FC0A794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8725-DB67-4E39-A07E-3F1D351B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106A-624F-43FF-9680-51C72A5C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F8D-F2A4-41A4-A29E-A4F5225A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A960-C793-48CB-82D6-77020B6E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DEBB-C0AB-4362-99A7-2827736D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0FC4-DF17-4C7C-BEC7-D543C8A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E6AF-17F7-4BA1-95C1-3CD1DAB2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0DA8-8C29-41FA-B37E-D930AB1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90C9-115A-495D-BD36-F3B9457E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D65-1D31-4334-B480-EE420F0E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611D-0B50-4926-9A7F-02D08AA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9513-7C25-4420-88F0-19B5749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B071-BDA6-45E6-ADCA-8932121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B05C-999D-4D5F-8EC2-B97251E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EA1C-16E3-4B81-B863-255C6B46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0D04-EF24-48B4-B454-D9690EFE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DB4F-5089-453B-8563-52FC4F64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1990-C288-4DE2-B538-E9E732B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CD24-4DE8-48FD-BA5C-BA0C8A3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8C02-6DF8-488A-BE91-B1F9EFF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7A0-810A-402A-92FE-DAB530B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6F5D-BA1D-48D1-8456-9276ABE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6C5A-5C89-4721-AB0F-2129F3D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2EB4-C80E-4183-9C97-DCEB694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66FA-823C-46B1-AB32-4629604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F28A-9D86-467D-9374-F94DFDED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E411-D392-4D7F-93CC-BE90120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DB10-C76E-4369-95F7-789BA77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5E0D-62A7-4E8C-943A-A0D6406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EBC4-E3D4-401B-843B-60913BE7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29DA-006C-4E2B-BA26-1D0C6E11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819-E207-46ED-A6AD-4D7E020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B4BE-32E4-41DA-BB0B-56BFB88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9B5C-C895-4D57-BE5E-8F1DE9D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57D2-FADA-4436-BDEE-7124066C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C88DD-EE24-4B87-8691-97A331C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09A6-C331-4E19-B85A-30E66464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0D60-7DA2-4E8C-A676-C4816EF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93FD-DD81-46FD-890A-E5F3BD1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AA42-493F-476A-A5B7-262C278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7183-4ECF-4DE6-B027-A552D86E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B197-F67B-4267-ABF6-0B8C3B8E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CB5-BDDC-42DF-B534-4693180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68D1-90E5-4078-83AF-5ADE04BA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5E68-8451-49C8-BC5C-CA6982A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B411-210F-4D73-8ADA-E299F994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EC5E-3153-48DE-BF4C-9535784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669A-B216-4EAA-BADE-98093D5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7BBD-0DA6-45C9-A6E2-C683E47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CB94-8505-491B-822C-717C8343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2D9B-9A0A-45C8-833E-28F337BD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C0A6-5DB7-4FAF-B695-47D56F0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00492-B214-40FC-9651-08E35EA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507-9D51-4C3F-8FA8-1A30B5B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54EC-ED1E-42C9-8B70-35DA1EFF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2DC3-6A75-41CF-B1DB-C61CC58F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7E45-034F-4139-81AD-15EE01C6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39D7-A575-4E32-8148-EEEF50E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D126-5D1D-472A-B8EC-A64D2B7B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0AE40-F1B6-443D-B66F-4AFF1DC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67AC-1CB1-43F7-805A-08E2E71D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CF8F-5910-4371-8C34-26FA79A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4F6A-AFDD-4C6A-BFC2-5799E68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A728F-A440-4429-AA9E-048A70D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6F6-2723-4F0A-958F-21E8495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0875-3962-4A92-B493-1F06E34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D8BB-7F5B-42D2-99E9-CAA2756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C71D-790C-41CF-8B82-DC0D114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C544-BD67-40BB-9A83-2D310A47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60B1-49D1-4584-BD58-D45FBAC5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65C-9B4F-4224-8B23-569187E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0C89-78EA-49C6-9D48-60DF6309F82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F96-E036-49CD-A320-7B99D4E4403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88E-7D0B-4D3D-A307-EC1D686E9C6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E7A-A005-4B5B-B977-7518AE39A33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5A65-4DD2-4701-9F9B-7041A72C2F4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254-3085-48EA-BDED-310B5F99CFF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D4B-F6AF-45E7-B4C4-6D6D9EC481F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6997680" y="1816200"/>
            <a:ext cx="1701720" cy="4824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838080"/>
            <a:ext cx="82296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ile I___________ (play), everyon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sit) still and listened. I played the song without any mistakes. Then I _______ (wait) for them to call out the winner. When I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hear) my name, my hea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(beat) so quickly I thought I would stop breathing. I couldn’t believe it. I ______ (win)! 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e) the happiest day of my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980360" y="91440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7239960" y="9144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5791320" y="220968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315920" y="281952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5334480" y="35053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4191840" y="47242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163640" y="47242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andara"/>
              </a:rPr>
              <a:t>Key phases of this uni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66560" y="1905120"/>
            <a:ext cx="68770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in the bathroom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浴室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in the kitchen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厨房里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cook dinner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煮晚餐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Pick up the phone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接电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walk down the street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沿街向下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503280" y="144792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He was sleeping late _______ someone kn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 the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wh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_ the police arrived, the alien lef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Before          C. After         D.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I was walking to school, I saw a cat clim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B. Wh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C. Before       D.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464000" y="137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368360" y="29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368360" y="396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2514600" y="6094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Ⅰ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单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457200" y="380880"/>
            <a:ext cx="81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--What were you doing at this time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slee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B. sle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was sleep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. 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She was _______to hear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surprise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 surpri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 surpris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D. su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514600" y="3352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76520" y="12193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395280" y="1773360"/>
            <a:ext cx="806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 we were talking in the class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eacher cam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_ they got to the airport, it wa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she was reading a book, the phone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_______ I saw the boy, he was wearing a new c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_______ he was reading, he fell a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24000" y="765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Ⅱ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when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或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while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填空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971640" y="1773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0000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900000" y="3645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900000" y="4292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900000" y="49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783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Search more information about Dr. Martin Luther king and discuss with your classmates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258920" y="907920"/>
            <a:ext cx="62755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Homework</a:t>
            </a:r>
            <a:r>
              <a:rPr b="0" lang="zh-CN" sz="4400" spc="-1" strike="noStrike">
                <a:solidFill>
                  <a:srgbClr val="073e87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What were you doing when the rainstorm c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209680" y="4191120"/>
            <a:ext cx="49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lf Chec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01"/>
          <p:cNvPicPr/>
          <p:nvPr/>
        </p:nvPicPr>
        <p:blipFill>
          <a:blip r:embed="rId1"/>
          <a:stretch/>
        </p:blipFill>
        <p:spPr>
          <a:xfrm>
            <a:off x="2484360" y="1413000"/>
            <a:ext cx="3743280" cy="3816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80520" y="5638680"/>
            <a:ext cx="86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00 am last Sunday, I was in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125880" y="4348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0"/>
          <p:cNvPicPr/>
          <p:nvPr/>
        </p:nvPicPr>
        <p:blipFill>
          <a:blip r:embed="rId1"/>
          <a:stretch/>
        </p:blipFill>
        <p:spPr>
          <a:xfrm>
            <a:off x="2411280" y="765000"/>
            <a:ext cx="3880080" cy="3959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762120" y="502920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 was watching someone swimming 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1:10 am last Su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03"/>
          <p:cNvPicPr/>
          <p:nvPr/>
        </p:nvPicPr>
        <p:blipFill>
          <a:blip r:embed="rId1"/>
          <a:stretch/>
        </p:blipFill>
        <p:spPr>
          <a:xfrm>
            <a:off x="2268360" y="836640"/>
            <a:ext cx="3741840" cy="3816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8380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15 am last Sunday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06"/>
          <p:cNvPicPr/>
          <p:nvPr/>
        </p:nvPicPr>
        <p:blipFill>
          <a:blip r:embed="rId1"/>
          <a:stretch/>
        </p:blipFill>
        <p:spPr>
          <a:xfrm>
            <a:off x="2411280" y="836640"/>
            <a:ext cx="3881520" cy="3959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1828800" y="5181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t 11:20 am last Sunda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990720" y="1828800"/>
            <a:ext cx="73152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as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did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did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re your friends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wa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 you remember this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1960" y="53352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a.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Make notes about an even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remember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82680" y="38088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. Fill in the blanks with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or while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609480" y="1066680"/>
            <a:ext cx="8001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was walking home from school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saw a strange light in the sky. But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pointed it out to my friend, it wen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______I told my older brother about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nge light in the sky, he just laugh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d didn’t belie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_______ my brother was laughing,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levision news reported that other peop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d seen the light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297440" y="1143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087680" y="17524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915840" y="29718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145160" y="472428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83760" y="533520"/>
            <a:ext cx="85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. Fill in the blanks with the correct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of the word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0880" y="1905120"/>
            <a:ext cx="853452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I____ (be) in the sixth grade, I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join) a piano competition. I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practice) for four hours every day and my piano teacher ________(come) three times a week to_______ (help) me. Then the big day finally _________ (arrive).  I _____ (be)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ervous when they _______ (call) my n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_ (go) up and_______ (start) to pl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277080" y="36576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934680" y="19051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jo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562720" y="251460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rac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1753560" y="19810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134800" y="41911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905120" y="480060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716080" y="480060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4115520" y="533412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991440" y="5867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4419720" y="586728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49:07Z</dcterms:modified>
  <cp:revision>2</cp:revision>
  <dc:subject/>
  <dc:title>PowerPoint 演示文稿</dc:title>
</cp:coreProperties>
</file>